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72400" cy="100584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EAC4-988A-4518-83D6-F9FE4462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6202-A045-42DE-80B7-41D6BADE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24FF-3B48-406D-9A25-4CAA747B7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40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192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40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192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484D-BD8F-4448-A417-93835370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AB92-4E80-45AB-A444-996B4F34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FC6D-01F6-4683-B22F-4C4FFF3A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C373-5751-46A2-944A-8C9F8E9C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6462-7E97-4DF5-9D01-2CAE5A6E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402840"/>
            <a:ext cx="69948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DA1B-A5E1-4C33-B13E-17773283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E2FA-B013-457E-8A3E-7955F079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7C94-B8F0-4D77-AA2A-8F094B53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E4BB-A11F-4B7D-88C3-A179AA54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8800" y="9159840"/>
            <a:ext cx="1812960" cy="698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159840"/>
            <a:ext cx="2460960" cy="698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159840"/>
            <a:ext cx="1812960" cy="698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7DA67DB-4375-4926-9D29-64834F4E5140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6845400"/>
            <a:ext cx="198720" cy="2401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22680" y="983520"/>
            <a:ext cx="1635120" cy="86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4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ylvester III (1045) –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Considered by some t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be an antipop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4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enedict IX (104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4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Gregory VI (1045-4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5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lement II (1046-4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5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enedict IX (1047-4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5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Damasus II (104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5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Leo IX (1049-5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5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Victor II (1055-5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5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tephen X (1057-5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5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Nicholas II (1058-6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5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Alexander II (1061-7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5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Gregory VII (1073-8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5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lessed Victor III (1086-8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6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lessed Urban II (1088-9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161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Paschal II (1099-111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162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Gelasius II (1118-1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163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Callistus II (1119-2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6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Honorius II (1124-3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6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Innocent II (1130-4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6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elestine II (1143-4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6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Lucius II (1144-4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6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lessed Eugene III (1145-5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169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Anastasius IV (1153-5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170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Adrian IV (1154-5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171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Alexander III (1159-8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7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Lucius III (1181-8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7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Urban III (1185-8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7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Gregory VIII (118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7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lement III (1187-9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7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elestine III (1191-9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7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Innocent III (1198-121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7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Honorius III (1216-2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7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Gregory IX (1227-4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8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elestine IV (124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8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Innocent IV (1243-5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8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Alexander IV (1254-6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8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Urban IV (1261-6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8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lement IV (1265-6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8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lessed Gregory X (1271-7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8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lessed Innocent V (127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8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Adrian V (127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8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XXI (1276-7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8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Nicholas III (1277-8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9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Martin IV (1281-8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9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Honorius IV (1285-8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9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Nicholas IV (1288-9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9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Celestine V (129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9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oniface VIII (1294-130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9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lessed Benedict XI (1303-0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9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lement V (1305-1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9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XXII (1316-3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9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enedict XII (1334-4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9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lement VI (1342-5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0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Innocent VI (1352-6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0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lessed Urban V (1362-7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0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Gregory XI (1370-7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0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Urban VI (1378-8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0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oniface IX (1389-140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0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Innocent VII (1404-0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0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Gregory XII (1406-1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0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Martin V (1417-3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208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Eugene IV (1431-4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209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Nicholas V (1447-5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210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Callistus III (1455-5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211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Pius II (1458-6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212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Paul II (1464-7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213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Sixtus IV (1471-8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214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Innocent VIII (1484-9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215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Alexander VI (1492-150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216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Pius III (150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217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Julius II (1503-1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218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Leo X (1513-2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219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Adrian VI (1522-2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220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Clement VII (1523-3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Tahoma"/>
              </a:rPr>
              <a:t>221.</a:t>
            </a:r>
            <a:r>
              <a:rPr b="0" lang="fr-FR" sz="700" spc="-1" strike="noStrike">
                <a:solidFill>
                  <a:srgbClr val="000000"/>
                </a:solidFill>
                <a:latin typeface="Tahoma"/>
              </a:rPr>
              <a:t> Paul III (1534-4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Tahoma"/>
              </a:rPr>
              <a:t>222.</a:t>
            </a:r>
            <a:r>
              <a:rPr b="0" lang="fr-FR" sz="700" spc="-1" strike="noStrike">
                <a:solidFill>
                  <a:srgbClr val="000000"/>
                </a:solidFill>
                <a:latin typeface="Tahoma"/>
              </a:rPr>
              <a:t> Julius III (1550-5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Tahoma"/>
              </a:rPr>
              <a:t>223.</a:t>
            </a:r>
            <a:r>
              <a:rPr b="0" lang="fr-FR" sz="700" spc="-1" strike="noStrike">
                <a:solidFill>
                  <a:srgbClr val="000000"/>
                </a:solidFill>
                <a:latin typeface="Tahoma"/>
              </a:rPr>
              <a:t> Marcellus II (155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2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Paul IV (1555-5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71720" y="983520"/>
            <a:ext cx="1533600" cy="86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7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Vitalian (657-7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7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Adeodatus (II) (672-7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7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Donus (676-7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7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Agatho (678-8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8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Leo II (682-8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8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Benedict II (684-8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8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V (685-8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8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onon (686-8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8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Sergius I (687-70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8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VI (701-0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8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VII (705-0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8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isinnius (70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8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onstantine (708-1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8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Gregory II (715-3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9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Gregory III (731-4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9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Zachary (741-5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9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tephen II (752) -- He die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before being consecrated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some lists (including th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Vatican's official) omit him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9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tephen III (752-5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9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Paul I (757-6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9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tephen IV (767-7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9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Adrian I (772-9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9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Leo III (795-81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9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tephen V (816-1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9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Paschal I (817-2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0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Eugene II (824-2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0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Valentine (82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0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Gregory IV (827-4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0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ergius II (844-4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0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Leo IV (847-5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0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enedict III (855-5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0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Nicholas I (the Great)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(858-6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0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Adrian II (867-7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0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VIII (872-8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0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Marinus I (882-8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1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Adrian III (884-8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1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tephen VI (885-9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1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Formosus (891-9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1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oniface VI (89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1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tephen VII (896-9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1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Romanus (89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1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Theodore II (89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1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IX (898-90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118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Benedict IV (900-0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119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Leo V (90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120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Sergius III (904-1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121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Anastasius III (911-1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122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Lando (913-1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ahoma"/>
              </a:rPr>
              <a:t>123.</a:t>
            </a: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 John X (914-2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2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Leo VI (92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2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tephen VIII (929-3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2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XI (931-3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2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Leo VII (936-3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2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tephen IX (939-4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2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Marinus II (942-4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3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Agapetus II (946-5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3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XII (955-6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3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Leo VIII (963-6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3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enedict V (96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3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XIII (965-7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3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enedict VI (973-7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3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enedict VII (974-8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3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XIV (983-8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3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XV (985-9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3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Gregory V (996-9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4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ylvester II (999-100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4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XVII (100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4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XVIII (1003-0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4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ergius IV (1009-1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4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enedict VIII (1012-2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4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XIX (1024-3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4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enedict IX (1032-45)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Benedict IX appears on thi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list three separate tim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because he was twic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removed and restore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(see 148 &amp; 15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82080"/>
            <a:ext cx="1596960" cy="86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ahoma"/>
              </a:rPr>
              <a:t>San Pedro (33-6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Linus (67-7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Anacletus (Cletus) (76-8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Clement I (88-9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Evaristus (97-10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Alexander I (105-11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Sixtus I (115-125) – als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called Xystus 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Telesphorus (125-13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Hyginus (136-14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1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Pius I (140-15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1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Anicetus (155-16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1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Soter (166-17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1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Eleutherius (175-18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1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Victor I (189-19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1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Zephyrinus (199-21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1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Callistus I (217-2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1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Urban I (222-3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1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Pontain (230-3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1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Anterus (235-3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2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Fabian (236-5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2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Cornelius (251-5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2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Lucius I (253-5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2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Stephen I (254-25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2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Sixtus II (257-25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2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Dionysius (260-26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2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Felix I (269-27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2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Eutychian (275-28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2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Caius (283-296) -- als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called Gaiu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2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Marcellinus (296-30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3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Marcellus I (308-30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3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Eusebius (309 or 31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3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Miltiades (311-1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3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Sylvester I (314-3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3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Marcus (33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3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Julius I (337-5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3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Liberius (352-6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3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Damasus I (366-8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3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Siricius (384-9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3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Anastasius I (399-40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4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Innocent I (401-1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4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Zosimus (417-1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4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Boniface I (418-2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4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Celestine I (422-3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4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Sixtus III (432-4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4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Leo I (the Great) (440-6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4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Hilarius (461-6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4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Simplicius (468-8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4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Felix III (II) (483-9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4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Gelasius I (492-9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5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Anastasius II (496-9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5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Symmachus (498-51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5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Hormisdas (514-2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5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John I (523-2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5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Felix IV (III) (526-3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5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Boniface II (530-3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5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John II (533-3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5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Agapetus I (535-3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also called Agapitus 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5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Silverius (536-3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5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Vigilius (537-5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6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Pelagius I (556-6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6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John III (561-7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6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Benedict I (575-7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6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Pelagius II (579-9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6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Gregory I (590-60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6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binian (604-60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6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Boniface III (60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6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Boniface IV (608-1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6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Deusdedit (Adeodatus I)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(615-1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6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Boniface V (619-2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7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Anti-Pope “Honorius I”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(625-38) see Constantinople II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7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inus (64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7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John IV (640-4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7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Theodore I (642-4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7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Martin I (649-5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7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  <a:ea typeface="Times New Roman"/>
              </a:rPr>
              <a:t> San Eugene I (655-5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95240" y="189000"/>
            <a:ext cx="6181920" cy="24120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ista de Papas de la Iglesia Catolica Romana … El Papado fue establecido por Jesucristo en 33 A.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31840" y="519120"/>
            <a:ext cx="5508720" cy="41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Catolico San Mateo 16:18-19 &gt;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Te digo a ti: Tu eres Pedro, y sobre esta roca construire mi Iglesia, y las puertas del infierno n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prevaleceran contra Ella … Y te dare a ti las llaves del Reino de los Cielos y lo que atares en la tierra, sera atado en los cielo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y lo que desatares en la tierra, sera desatado en los cielo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07160" y="6244560"/>
            <a:ext cx="1600200" cy="32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Lista parcial de la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herejias anti-Cristo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hechas por hombres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Arian herejia - 31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Pelagian herejia - 4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Nestorian herejia - 42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Monothelite herejia - 62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Mohammedan herejia - 62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 Iconoclast herejia - 723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7.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Eastern ‘orthodox’ - 105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 Albigensian herejia - 117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9.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 Hussite herejia - 14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0.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Lutheran herejia - 151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Anglican herejia - 1534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2.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Presbyterian herejia - 156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Baptist herejia - 160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Reformed herejia - 162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5.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Methodist herejia - 174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Episcopalian herejia - 178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Mormon herejia - 182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Seventh Day herejia - 183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1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Salvation Army herejia - 186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Jehovah witness herejia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- 188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Pentecostal herejias - 190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 Vatican-2 herejia - 1965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03920" y="6369120"/>
            <a:ext cx="1587600" cy="291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1471680" y="5185800"/>
            <a:ext cx="8350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* Tito 3:10-11 </a:t>
            </a: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El hombre que es hereje, despues de la primera y segunda admonicion, ignorarlo … Sabiendo que el es sobervio y peca, siendo condenado por su propio juicio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189000"/>
            <a:ext cx="495360" cy="709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803920" y="5637240"/>
            <a:ext cx="1589040" cy="626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1ra De Timoteo 3: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a Iglesia del Dios Vivient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l pilar y terre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e la verd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054920" y="189000"/>
            <a:ext cx="495360" cy="709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720400" y="9353520"/>
            <a:ext cx="1771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http://Immaculata-one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93120" y="987120"/>
            <a:ext cx="16088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2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Pius IV (1559-6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2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Pius V (1566-7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2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Gregory XIII (1572-8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2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ixtus V (1585-9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2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Urban VII (159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3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Gregory XIV (1590-9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3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Innocent IX (159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3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lement VIII (1592-160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3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Leo XI (160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3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Paul V (1605-2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3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Gregory XV (1621-2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3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Urban VIII (1623-4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3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Innocent X (1644-5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3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Alexander VII (1655-6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3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lement IX (1667-6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4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lement X (1670-7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4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lessed Innocent XI (1676-8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4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Alexander VIII (1689-9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4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Innocent XII (1691-170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4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lement XI (1700-2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4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Innocent XIII (1721-2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4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enedict XIII (1724-3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4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lement XII (1730-4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4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enedict XIV (1740-5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4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Clement XIII (1758-6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Tahoma"/>
              </a:rPr>
              <a:t>250.</a:t>
            </a:r>
            <a:r>
              <a:rPr b="0" lang="fr-FR" sz="700" spc="-1" strike="noStrike">
                <a:solidFill>
                  <a:srgbClr val="000000"/>
                </a:solidFill>
                <a:latin typeface="Tahoma"/>
              </a:rPr>
              <a:t> Clement XIV (1769-7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Tahoma"/>
              </a:rPr>
              <a:t>251.</a:t>
            </a:r>
            <a:r>
              <a:rPr b="0" lang="fr-FR" sz="700" spc="-1" strike="noStrike">
                <a:solidFill>
                  <a:srgbClr val="000000"/>
                </a:solidFill>
                <a:latin typeface="Tahoma"/>
              </a:rPr>
              <a:t> Pius VI (1775-9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Tahoma"/>
              </a:rPr>
              <a:t>252.</a:t>
            </a:r>
            <a:r>
              <a:rPr b="0" lang="fr-FR" sz="700" spc="-1" strike="noStrike">
                <a:solidFill>
                  <a:srgbClr val="000000"/>
                </a:solidFill>
                <a:latin typeface="Tahoma"/>
              </a:rPr>
              <a:t> Pius VII (1800-2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5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Leo XII (1823-29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5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Pius VIII (1829-3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Gregory XVI (1831-4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5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Pope Pius IX (1846-7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57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Leo XIII (1878-190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58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San Pius X (1903-1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59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enedict XV (1914-22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60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Pius XI (1922-39) *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61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Pius XII (1939-5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62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lessed John XXIII (1958-63) *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63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Paul VI (1963-78) *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64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Paul I (1978) *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65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John Paul II (1978-2005) *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266.</a:t>
            </a: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 Benedict XVI (2005 - ) *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2160" y="9567720"/>
            <a:ext cx="613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El " * " indica que estos individuos cometieron pecados de omicion y comicion en contra de la Dogma Catolica De Salvacion, que tienes que ser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Tahoma"/>
              </a:rPr>
              <a:t>Catolico para llegar al cielo ... les causa en incurrir una automatica ex-comunion por herejia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5T04:13:20Z</dcterms:created>
  <dc:creator>Mike Bizzaro</dc:creator>
  <dc:description/>
  <dc:language>en-US</dc:language>
  <cp:lastModifiedBy>Michael Bizzaro</cp:lastModifiedBy>
  <dcterms:modified xsi:type="dcterms:W3CDTF">2012-04-24T02:20:10Z</dcterms:modified>
  <cp:revision>73</cp:revision>
  <dc:subject/>
  <dc:title>Slide 1</dc:title>
</cp:coreProperties>
</file>